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9FD0-3165-428A-96AA-CF9E25788EA7}" type="slidenum">
              <a:rPr b="0" lang="en-GB" sz="36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0DD4-FC3C-486D-B8CC-AF9E6322BEB6}" type="slidenum">
              <a:rPr b="0" lang="en-GB" sz="36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003D-7078-4FCB-B672-BCF8F6902CB7}" type="slidenum">
              <a:rPr b="0" lang="en-CA" sz="3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Glucose and cornstarch demo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. Surface tension is caused by cohesion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. Adhesion between glass and water then cohesion pulls it up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62856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764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0708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0840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155240" y="2603520"/>
            <a:ext cx="680724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1155600" y="1180800"/>
            <a:ext cx="13932000" cy="676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614520" indent="-46908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7156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12860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39680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851680" y="2603520"/>
            <a:ext cx="623556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155240" y="2603520"/>
            <a:ext cx="680724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600480" indent="-45828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5176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10304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36512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5600" y="2781000"/>
            <a:ext cx="139320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marL="92520" indent="-9252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200520" indent="-7704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308520" indent="-6156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432000" indent="-6156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555480" indent="-6156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555480" indent="-6156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555480" indent="-6156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5600" y="6908760"/>
            <a:ext cx="139320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5600" y="6908760"/>
            <a:ext cx="139320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5600" y="1434600"/>
            <a:ext cx="83692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155600" y="4597560"/>
            <a:ext cx="836928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318960" indent="-31896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487880" indent="-21240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5600" y="1434600"/>
            <a:ext cx="83692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55600" y="4597560"/>
            <a:ext cx="836928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318960" indent="-31896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487880" indent="-21240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63560" y="241200"/>
            <a:ext cx="1294128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1" descr=""/>
          <p:cNvPicPr/>
          <p:nvPr/>
        </p:nvPicPr>
        <p:blipFill>
          <a:blip r:embed="rId1"/>
          <a:stretch/>
        </p:blipFill>
        <p:spPr>
          <a:xfrm>
            <a:off x="-1911240" y="0"/>
            <a:ext cx="20078640" cy="125492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659880" y="774720"/>
            <a:ext cx="14935320" cy="811512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d90b00"/>
                </a:solidFill>
                <a:uFillTx/>
                <a:latin typeface="Arial Bold"/>
                <a:ea typeface="Arial Bold"/>
              </a:rPr>
              <a:t>Starter - Why are leaves green?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b00"/>
                </a:solidFill>
                <a:latin typeface="Arial Bold"/>
                <a:ea typeface="ヒラギノ角ゴ ProN W6"/>
              </a:rPr>
              <a:t>2. Write the equation for photosynthesis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b00"/>
                </a:solidFill>
                <a:latin typeface="Arial Bold"/>
                <a:ea typeface="ヒラギノ角ゴ ProN W6"/>
              </a:rPr>
              <a:t>3. What three factors affect photosynthesis?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b00"/>
                </a:solidFill>
                <a:latin typeface="Arial Bold"/>
                <a:ea typeface="ヒラギノ角ゴ ProN W6"/>
              </a:rPr>
              <a:t>4. Draw the graph of the three factors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b00"/>
                </a:solidFill>
                <a:latin typeface="Arial Bold"/>
                <a:ea typeface="ヒラギノ角ゴ ProN W6"/>
              </a:rPr>
              <a:t>5. Name 4 things that the glucose converts into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plant cell flat"/>
          <p:cNvPicPr/>
          <p:nvPr/>
        </p:nvPicPr>
        <p:blipFill>
          <a:blip r:embed="rId1"/>
          <a:stretch/>
        </p:blipFill>
        <p:spPr>
          <a:xfrm>
            <a:off x="13377960" y="2076480"/>
            <a:ext cx="1720800" cy="191772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12880" y="-203400"/>
            <a:ext cx="146304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6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n-GB" sz="7600" spc="-1" strike="noStrike">
                <a:solidFill>
                  <a:srgbClr val="000000"/>
                </a:solidFill>
                <a:latin typeface="Gill Sans"/>
              </a:rPr>
              <a:t>How do plants grow?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1058760" y="922320"/>
            <a:ext cx="1503864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Gill Sans"/>
              </a:rPr>
              <a:t>Plant cells in the upper surface of leaves have </a:t>
            </a:r>
            <a:r>
              <a:rPr b="1" lang="en-GB" sz="3800" spc="-1" strike="noStrike">
                <a:solidFill>
                  <a:srgbClr val="000066"/>
                </a:solidFill>
                <a:latin typeface="Gill Sans"/>
              </a:rPr>
              <a:t>chloroplasts</a:t>
            </a:r>
            <a:r>
              <a:rPr b="0" lang="en-GB" sz="3800" spc="-1" strike="noStrike">
                <a:solidFill>
                  <a:srgbClr val="000066"/>
                </a:solidFill>
                <a:latin typeface="Gill Sans"/>
              </a:rPr>
              <a:t> which contain the green pigment called </a:t>
            </a:r>
            <a:r>
              <a:rPr b="1" lang="en-GB" sz="3800" spc="-1" strike="noStrike">
                <a:solidFill>
                  <a:srgbClr val="10a958"/>
                </a:solidFill>
                <a:latin typeface="Gill Sans"/>
              </a:rPr>
              <a:t>chlorophyll</a:t>
            </a:r>
            <a:r>
              <a:rPr b="0" lang="en-GB" sz="3800" spc="-1" strike="noStrike">
                <a:solidFill>
                  <a:srgbClr val="000066"/>
                </a:solidFill>
                <a:latin typeface="Gill Sans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3" name="Picture 5" descr="GXF_sun_RC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262320" y="1979640"/>
            <a:ext cx="2430360" cy="18223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RC_standard_plant_and_roots"/>
          <p:cNvPicPr/>
          <p:nvPr/>
        </p:nvPicPr>
        <p:blipFill>
          <a:blip r:embed="rId3"/>
          <a:stretch/>
        </p:blipFill>
        <p:spPr>
          <a:xfrm>
            <a:off x="5965920" y="2940120"/>
            <a:ext cx="4324320" cy="384012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7"/>
          <p:cNvSpPr/>
          <p:nvPr/>
        </p:nvSpPr>
        <p:spPr>
          <a:xfrm flipV="1" rot="3016800">
            <a:off x="5582520" y="3559320"/>
            <a:ext cx="1301760" cy="1487160"/>
          </a:xfrm>
          <a:custGeom>
            <a:avLst/>
            <a:gdLst>
              <a:gd name="textAreaLeft" fmla="*/ 190440 w 1301760"/>
              <a:gd name="textAreaRight" fmla="*/ 1111320 w 1301760"/>
              <a:gd name="textAreaTop" fmla="*/ 217800 h 1487160"/>
              <a:gd name="textAreaBottom" fmla="*/ 1269360 h 1487160"/>
            </a:gdLst>
            <a:ahLst/>
            <a:rect l="textAreaLeft" t="textAreaTop" r="textAreaRight" b="textAreaBottom"/>
            <a:pathLst>
              <a:path w="21600" h="21600">
                <a:moveTo>
                  <a:pt x="17587" y="10753"/>
                </a:moveTo>
                <a:cubicBezTo>
                  <a:pt x="17562" y="7022"/>
                  <a:pt x="14530" y="4012"/>
                  <a:pt x="10800" y="4012"/>
                </a:cubicBezTo>
                <a:cubicBezTo>
                  <a:pt x="10589" y="4011"/>
                  <a:pt x="10379" y="4021"/>
                  <a:pt x="10169" y="4041"/>
                </a:cubicBezTo>
                <a:lnTo>
                  <a:pt x="9797" y="46"/>
                </a:lnTo>
                <a:cubicBezTo>
                  <a:pt x="10130" y="15"/>
                  <a:pt x="10465" y="-1"/>
                  <a:pt x="10800" y="0"/>
                </a:cubicBezTo>
                <a:cubicBezTo>
                  <a:pt x="16735" y="0"/>
                  <a:pt x="21558" y="4789"/>
                  <a:pt x="21599" y="10725"/>
                </a:cubicBezTo>
                <a:lnTo>
                  <a:pt x="24299" y="10706"/>
                </a:lnTo>
                <a:lnTo>
                  <a:pt x="19625" y="15445"/>
                </a:lnTo>
                <a:lnTo>
                  <a:pt x="14887" y="10771"/>
                </a:lnTo>
                <a:lnTo>
                  <a:pt x="17587" y="10753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360" bIns="72360" anchor="t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AutoShape 8"/>
          <p:cNvSpPr/>
          <p:nvPr/>
        </p:nvSpPr>
        <p:spPr>
          <a:xfrm flipV="1" rot="3016800">
            <a:off x="5652360" y="5056200"/>
            <a:ext cx="1301760" cy="1487160"/>
          </a:xfrm>
          <a:custGeom>
            <a:avLst/>
            <a:gdLst>
              <a:gd name="textAreaLeft" fmla="*/ 190440 w 1301760"/>
              <a:gd name="textAreaRight" fmla="*/ 1111320 w 1301760"/>
              <a:gd name="textAreaTop" fmla="*/ 217800 h 1487160"/>
              <a:gd name="textAreaBottom" fmla="*/ 1269360 h 1487160"/>
            </a:gdLst>
            <a:ahLst/>
            <a:rect l="textAreaLeft" t="textAreaTop" r="textAreaRight" b="textAreaBottom"/>
            <a:pathLst>
              <a:path w="21600" h="21600">
                <a:moveTo>
                  <a:pt x="17587" y="10753"/>
                </a:moveTo>
                <a:cubicBezTo>
                  <a:pt x="17562" y="7022"/>
                  <a:pt x="14530" y="4012"/>
                  <a:pt x="10800" y="4012"/>
                </a:cubicBezTo>
                <a:cubicBezTo>
                  <a:pt x="10589" y="4011"/>
                  <a:pt x="10379" y="4021"/>
                  <a:pt x="10169" y="4041"/>
                </a:cubicBezTo>
                <a:lnTo>
                  <a:pt x="9797" y="46"/>
                </a:lnTo>
                <a:cubicBezTo>
                  <a:pt x="10130" y="15"/>
                  <a:pt x="10465" y="-1"/>
                  <a:pt x="10800" y="0"/>
                </a:cubicBezTo>
                <a:cubicBezTo>
                  <a:pt x="16735" y="0"/>
                  <a:pt x="21558" y="4789"/>
                  <a:pt x="21599" y="10725"/>
                </a:cubicBezTo>
                <a:lnTo>
                  <a:pt x="24299" y="10706"/>
                </a:lnTo>
                <a:lnTo>
                  <a:pt x="19625" y="15445"/>
                </a:lnTo>
                <a:lnTo>
                  <a:pt x="14887" y="10771"/>
                </a:lnTo>
                <a:lnTo>
                  <a:pt x="17587" y="10753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360" bIns="72360" anchor="t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AutoShape 9"/>
          <p:cNvSpPr/>
          <p:nvPr/>
        </p:nvSpPr>
        <p:spPr>
          <a:xfrm flipH="1" flipV="1" rot="7581600">
            <a:off x="9231480" y="4821480"/>
            <a:ext cx="1301760" cy="1462320"/>
          </a:xfrm>
          <a:custGeom>
            <a:avLst/>
            <a:gdLst>
              <a:gd name="textAreaLeft" fmla="*/ 190440 w 1301760"/>
              <a:gd name="textAreaRight" fmla="*/ 1111320 w 1301760"/>
              <a:gd name="textAreaTop" fmla="*/ 213840 h 1462320"/>
              <a:gd name="textAreaBottom" fmla="*/ 1248480 h 1462320"/>
            </a:gdLst>
            <a:ahLst/>
            <a:rect l="textAreaLeft" t="textAreaTop" r="textAreaRight" b="textAreaBottom"/>
            <a:pathLst>
              <a:path w="21600" h="21600">
                <a:moveTo>
                  <a:pt x="17587" y="10753"/>
                </a:moveTo>
                <a:cubicBezTo>
                  <a:pt x="17562" y="7022"/>
                  <a:pt x="14530" y="4012"/>
                  <a:pt x="10800" y="4012"/>
                </a:cubicBezTo>
                <a:cubicBezTo>
                  <a:pt x="10589" y="4011"/>
                  <a:pt x="10379" y="4021"/>
                  <a:pt x="10169" y="4041"/>
                </a:cubicBezTo>
                <a:lnTo>
                  <a:pt x="9797" y="46"/>
                </a:lnTo>
                <a:cubicBezTo>
                  <a:pt x="10130" y="15"/>
                  <a:pt x="10465" y="-1"/>
                  <a:pt x="10800" y="0"/>
                </a:cubicBezTo>
                <a:cubicBezTo>
                  <a:pt x="16735" y="0"/>
                  <a:pt x="21558" y="4789"/>
                  <a:pt x="21599" y="10725"/>
                </a:cubicBezTo>
                <a:lnTo>
                  <a:pt x="24299" y="10706"/>
                </a:lnTo>
                <a:lnTo>
                  <a:pt x="19625" y="15445"/>
                </a:lnTo>
                <a:lnTo>
                  <a:pt x="14887" y="10771"/>
                </a:lnTo>
                <a:lnTo>
                  <a:pt x="17587" y="10753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360" bIns="72360" anchor="t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AutoShape 10"/>
          <p:cNvSpPr/>
          <p:nvPr/>
        </p:nvSpPr>
        <p:spPr>
          <a:xfrm rot="12230400">
            <a:off x="8895960" y="4019400"/>
            <a:ext cx="897120" cy="648000"/>
          </a:xfrm>
          <a:prstGeom prst="rightArrow">
            <a:avLst>
              <a:gd name="adj1" fmla="val 42213"/>
              <a:gd name="adj2" fmla="val 47334"/>
            </a:avLst>
          </a:prstGeom>
          <a:solidFill>
            <a:srgbClr val="ff9900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10668240" y="4840200"/>
            <a:ext cx="23299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Gill Sans"/>
              </a:rPr>
              <a:t>oxyge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Text Box 12"/>
          <p:cNvSpPr/>
          <p:nvPr/>
        </p:nvSpPr>
        <p:spPr>
          <a:xfrm>
            <a:off x="9811080" y="4167360"/>
            <a:ext cx="24246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Gill Sans"/>
              </a:rPr>
              <a:t>glucos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1351440" y="3979800"/>
            <a:ext cx="45763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Gill Sans"/>
              </a:rPr>
              <a:t>carbon dioxide</a:t>
            </a:r>
            <a:r>
              <a:rPr b="1" lang="en-GB" sz="4400" spc="-1" strike="noStrike">
                <a:solidFill>
                  <a:srgbClr val="010066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0066"/>
                </a:solidFill>
                <a:latin typeface="Gill Sans"/>
              </a:rPr>
              <a:t>(from the air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1502640" y="5529240"/>
            <a:ext cx="4228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Gill Sans"/>
              </a:rPr>
              <a:t>water</a:t>
            </a:r>
            <a:r>
              <a:rPr b="1" lang="en-GB" sz="4400" spc="-1" strike="noStrike">
                <a:solidFill>
                  <a:srgbClr val="010066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0066"/>
                </a:solidFill>
                <a:latin typeface="Gill Sans"/>
              </a:rPr>
              <a:t>(from the soil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Oval 15"/>
          <p:cNvSpPr/>
          <p:nvPr/>
        </p:nvSpPr>
        <p:spPr>
          <a:xfrm>
            <a:off x="552600" y="1066680"/>
            <a:ext cx="449280" cy="336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AutoShape 16"/>
          <p:cNvSpPr/>
          <p:nvPr/>
        </p:nvSpPr>
        <p:spPr>
          <a:xfrm rot="1381800">
            <a:off x="5627160" y="2844720"/>
            <a:ext cx="1349640" cy="647640"/>
          </a:xfrm>
          <a:prstGeom prst="rightArrow">
            <a:avLst>
              <a:gd name="adj1" fmla="val 37759"/>
              <a:gd name="adj2" fmla="val 58977"/>
            </a:avLst>
          </a:prstGeom>
          <a:gradFill rotWithShape="0">
            <a:gsLst>
              <a:gs pos="0">
                <a:srgbClr val="ff6600"/>
              </a:gs>
              <a:gs pos="100000">
                <a:srgbClr val="ffcc00"/>
              </a:gs>
            </a:gsLst>
            <a:lin ang="9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Text Box 17"/>
          <p:cNvSpPr/>
          <p:nvPr/>
        </p:nvSpPr>
        <p:spPr>
          <a:xfrm>
            <a:off x="5864400" y="2266920"/>
            <a:ext cx="3695400" cy="6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Gill Sans"/>
              </a:rPr>
              <a:t>light ener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Text Box 18"/>
          <p:cNvSpPr/>
          <p:nvPr/>
        </p:nvSpPr>
        <p:spPr>
          <a:xfrm>
            <a:off x="1085760" y="6972480"/>
            <a:ext cx="1504008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Gill Sans"/>
              </a:rPr>
              <a:t>It is chlorophyll that absorbs light energy from the Sun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Gill Sans"/>
              </a:rPr>
              <a:t>to make photosynthesis happen.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47" name="Group 19"/>
          <p:cNvGrpSpPr/>
          <p:nvPr/>
        </p:nvGrpSpPr>
        <p:grpSpPr>
          <a:xfrm>
            <a:off x="9750600" y="1992240"/>
            <a:ext cx="6287040" cy="2974680"/>
            <a:chOff x="9750600" y="1992240"/>
            <a:chExt cx="6287040" cy="2974680"/>
          </a:xfrm>
        </p:grpSpPr>
        <p:sp>
          <p:nvSpPr>
            <p:cNvPr id="548" name="Oval 20"/>
            <p:cNvSpPr/>
            <p:nvPr/>
          </p:nvSpPr>
          <p:spPr>
            <a:xfrm>
              <a:off x="12069720" y="1992240"/>
              <a:ext cx="3967920" cy="297468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9" name="Line 21"/>
            <p:cNvSpPr/>
            <p:nvPr/>
          </p:nvSpPr>
          <p:spPr>
            <a:xfrm>
              <a:off x="9767160" y="3528000"/>
              <a:ext cx="3096360" cy="11379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50" name="Line 22"/>
            <p:cNvSpPr/>
            <p:nvPr/>
          </p:nvSpPr>
          <p:spPr>
            <a:xfrm flipV="1">
              <a:off x="9750600" y="2241720"/>
              <a:ext cx="3200040" cy="12967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51" name="Text Box 23"/>
          <p:cNvSpPr/>
          <p:nvPr/>
        </p:nvSpPr>
        <p:spPr>
          <a:xfrm>
            <a:off x="12551760" y="3919680"/>
            <a:ext cx="301428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10a958"/>
                </a:solidFill>
                <a:latin typeface="Gill Sans"/>
              </a:rPr>
              <a:t>chlorophyll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AutoShape 24"/>
          <p:cNvSpPr/>
          <p:nvPr/>
        </p:nvSpPr>
        <p:spPr>
          <a:xfrm flipH="1" flipV="1" rot="4351200">
            <a:off x="13167000" y="3147840"/>
            <a:ext cx="1041120" cy="1388880"/>
          </a:xfrm>
          <a:custGeom>
            <a:avLst/>
            <a:gdLst>
              <a:gd name="textAreaLeft" fmla="*/ 152280 w 1041120"/>
              <a:gd name="textAreaRight" fmla="*/ 888840 w 1041120"/>
              <a:gd name="textAreaTop" fmla="*/ 203400 h 1388880"/>
              <a:gd name="textAreaBottom" fmla="*/ 1185480 h 1388880"/>
            </a:gdLst>
            <a:ahLst/>
            <a:rect l="textAreaLeft" t="textAreaTop" r="textAreaRight" b="textAreaBottom"/>
            <a:pathLst>
              <a:path w="21600" h="21600">
                <a:moveTo>
                  <a:pt x="17587" y="10753"/>
                </a:moveTo>
                <a:cubicBezTo>
                  <a:pt x="17563" y="7235"/>
                  <a:pt x="14856" y="4320"/>
                  <a:pt x="11351" y="4034"/>
                </a:cubicBezTo>
                <a:lnTo>
                  <a:pt x="11677" y="35"/>
                </a:lnTo>
                <a:cubicBezTo>
                  <a:pt x="17254" y="490"/>
                  <a:pt x="21560" y="5129"/>
                  <a:pt x="21599" y="10725"/>
                </a:cubicBezTo>
                <a:lnTo>
                  <a:pt x="24299" y="10706"/>
                </a:lnTo>
                <a:lnTo>
                  <a:pt x="19625" y="15445"/>
                </a:lnTo>
                <a:lnTo>
                  <a:pt x="14887" y="10771"/>
                </a:lnTo>
                <a:lnTo>
                  <a:pt x="17587" y="10753"/>
                </a:lnTo>
                <a:close/>
              </a:path>
            </a:pathLst>
          </a:custGeom>
          <a:solidFill>
            <a:srgbClr val="010066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360" bIns="72360" anchor="t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" name="ShockwaveFlash1"/>
          <p:cNvGraphicFramePr/>
          <p:nvPr/>
        </p:nvGraphicFramePr>
        <p:xfrm>
          <a:off x="351000" y="1042920"/>
          <a:ext cx="15465240" cy="707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042920"/>
                    <a:ext cx="15465240" cy="70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566640" y="684000"/>
            <a:ext cx="14520960" cy="762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46980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rite the balanced equation for photosynthesi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6980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, what are the limiting factor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6980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17640" y="3348000"/>
            <a:ext cx="5252760" cy="48801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" descr="rate of photosynthesis plotted against carbon dioxide concentration. the rate begins to slow as the carbon dioxide concentration continues to increase"/>
          <p:cNvPicPr/>
          <p:nvPr/>
        </p:nvPicPr>
        <p:blipFill>
          <a:blip r:embed="rId2"/>
          <a:stretch/>
        </p:blipFill>
        <p:spPr>
          <a:xfrm>
            <a:off x="5438880" y="3564000"/>
            <a:ext cx="5019480" cy="46641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rate of photosynthesis plotted against temperature. the rate begins to slow as the temperature continues to increase"/>
          <p:cNvPicPr/>
          <p:nvPr/>
        </p:nvPicPr>
        <p:blipFill>
          <a:blip r:embed="rId3"/>
          <a:stretch/>
        </p:blipFill>
        <p:spPr>
          <a:xfrm>
            <a:off x="10620360" y="3516480"/>
            <a:ext cx="503712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-12600" y="395280"/>
            <a:ext cx="14824080" cy="7580160"/>
          </a:xfrm>
          <a:prstGeom prst="rect">
            <a:avLst/>
          </a:prstGeom>
          <a:ln w="0">
            <a:noFill/>
          </a:ln>
        </p:spPr>
      </p:pic>
      <p:sp>
        <p:nvSpPr>
          <p:cNvPr id="560" name="1 Rectángulo"/>
          <p:cNvSpPr/>
          <p:nvPr/>
        </p:nvSpPr>
        <p:spPr>
          <a:xfrm>
            <a:off x="0" y="7837560"/>
            <a:ext cx="1625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In pairs write a summary of how the leaf is designed to maximize the three limiting factors. (CO2, Light and temperature)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55600" y="240840"/>
            <a:ext cx="13932000" cy="12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What happens to the glucose?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23360" y="1476360"/>
            <a:ext cx="15337080" cy="7416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15336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lucose is water soluble, so if it stays in this form, it will affect the water content in the plant, therefore it needs to change into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ellulo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il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do we find each of these in the plant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Translocatio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 The movement of materials (organic and nonorganic) from leaves to other tissues throughout the plant. Nutrients are translocated from sources (high amount) to sinks (low amounts/storage). Some important sinks are roots, flowers, fruits, stems, and developing leave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11000" y="1692000"/>
            <a:ext cx="13931640" cy="22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Who won?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155600" y="4788000"/>
            <a:ext cx="13932000" cy="351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46980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eck your answers from the beginning of the class with your note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177480" y="329760"/>
            <a:ext cx="15874920" cy="855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buClr>
                <a:srgbClr val="3f691e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691e"/>
                </a:solidFill>
                <a:latin typeface="Arial"/>
                <a:ea typeface="Arial"/>
              </a:rPr>
              <a:t>Copy and complete using the words below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691e"/>
                </a:solidFill>
                <a:latin typeface="Arial Bold"/>
                <a:ea typeface="Arial Bold"/>
              </a:rPr>
              <a:t>carbon dioxide   </a:t>
            </a:r>
            <a:r>
              <a:rPr b="0" lang="en-US" sz="3600" spc="-1" strike="noStrike">
                <a:solidFill>
                  <a:srgbClr val="d90b00"/>
                </a:solidFill>
                <a:latin typeface="Arial Bold"/>
                <a:ea typeface="Arial Bold"/>
              </a:rPr>
              <a:t>chlorophyll</a:t>
            </a:r>
            <a:r>
              <a:rPr b="0" lang="en-US" sz="3600" spc="-1" strike="noStrike">
                <a:solidFill>
                  <a:srgbClr val="3f691e"/>
                </a:solidFill>
                <a:latin typeface="Arial Bold"/>
                <a:ea typeface="Arial Bold"/>
              </a:rPr>
              <a:t>  energy   </a:t>
            </a:r>
            <a:r>
              <a:rPr b="0" lang="en-US" sz="3600" spc="-1" strike="noStrike">
                <a:solidFill>
                  <a:srgbClr val="d90b00"/>
                </a:solidFill>
                <a:latin typeface="Arial Bold"/>
                <a:ea typeface="Arial Bold"/>
              </a:rPr>
              <a:t>gas</a:t>
            </a:r>
            <a:r>
              <a:rPr b="0" lang="en-US" sz="3600" spc="-1" strike="noStrike">
                <a:solidFill>
                  <a:srgbClr val="3f691e"/>
                </a:solidFill>
                <a:latin typeface="Arial Bold"/>
                <a:ea typeface="Arial Bold"/>
              </a:rPr>
              <a:t>  glucose  </a:t>
            </a:r>
            <a:r>
              <a:rPr b="0" lang="en-US" sz="3600" spc="-1" strike="noStrike">
                <a:solidFill>
                  <a:srgbClr val="d90b00"/>
                </a:solidFill>
                <a:latin typeface="Arial Bold"/>
                <a:ea typeface="Arial Bold"/>
              </a:rPr>
              <a:t>light</a:t>
            </a:r>
            <a:r>
              <a:rPr b="0" lang="en-US" sz="3600" spc="-1" strike="noStrike">
                <a:solidFill>
                  <a:srgbClr val="3f691e"/>
                </a:solidFill>
                <a:latin typeface="Arial Bold"/>
                <a:ea typeface="Arial Bold"/>
              </a:rPr>
              <a:t>   oxygen     </a:t>
            </a:r>
            <a:r>
              <a:rPr b="0" lang="en-US" sz="3600" spc="-1" strike="noStrike">
                <a:solidFill>
                  <a:srgbClr val="d90b00"/>
                </a:solidFill>
                <a:latin typeface="Arial Bold"/>
                <a:ea typeface="Arial Bold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691e"/>
                </a:solidFill>
                <a:latin typeface="Arial"/>
                <a:ea typeface="Arial"/>
              </a:rPr>
              <a:t>During photosynthesis ............ energy is absorbed by ............, a substance found in chloroplasts.  This ............ is then used to convert ............ from the air and ............ from the soil into a simple sugar called ............ . ............ is also produced and released as a ............ 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buClr>
                <a:srgbClr val="ff5308"/>
              </a:buClr>
              <a:buSzPct val="99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308"/>
                </a:solidFill>
                <a:latin typeface="Arial"/>
                <a:ea typeface="Arial"/>
              </a:rPr>
              <a:t>Where does a plant get the water and carbon dioxide that it needs for photosynthesis, and how does it get the light it needs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buClr>
                <a:srgbClr val="d90b00"/>
              </a:buClr>
              <a:buSzPct val="99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b00"/>
                </a:solidFill>
                <a:latin typeface="Arial"/>
                <a:ea typeface="Arial"/>
              </a:rPr>
              <a:t>Where do algae get the same things from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buClr>
                <a:srgbClr val="66008d"/>
              </a:buClr>
              <a:buSzPct val="99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8d"/>
                </a:solidFill>
                <a:latin typeface="Arial"/>
                <a:ea typeface="Arial"/>
              </a:rPr>
              <a:t>Work out the path taken by a carbon atom as it moves from being part of the carbon dioxide in the air to being part of a starch molecule in a plant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UARIO</dc:creator>
  <dc:description/>
  <dc:language>en-US</dc:language>
  <cp:lastModifiedBy>J Crook</cp:lastModifiedBy>
  <dcterms:modified xsi:type="dcterms:W3CDTF">2017-01-31T16:16:11Z</dcterms:modified>
  <cp:revision>13</cp:revision>
  <dc:subject/>
  <dc:title>Presentación de PowerPoint</dc:title>
</cp:coreProperties>
</file>